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5.jpeg" ContentType="image/jpeg"/>
  <Override PartName="/ppt/media/image1.jpeg" ContentType="image/jpeg"/>
  <Override PartName="/ppt/media/image2.wmf" ContentType="image/x-wmf"/>
  <Override PartName="/ppt/media/image11.wmf" ContentType="image/x-wmf"/>
  <Override PartName="/ppt/media/image3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14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FA0B5-B9F0-443C-A946-D0DF5721A2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C41D5-D026-4C5D-AD2C-8D1A422127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626B7-062D-4F25-8F6C-EB920F3A21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F9E37-F22D-401B-A656-4C5144EEC7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76160" y="847800"/>
            <a:ext cx="696276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9E707-7806-4182-92E8-EA96E7F7D2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F6BA8-058D-4DAE-8172-CF931A1F8E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3A867-0454-4431-B7B0-27C378AC1F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F697F-FE77-40B7-B3E6-A0EC7B7491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76160" y="847800"/>
            <a:ext cx="696276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B6C52-685D-4554-9877-E42233D1A6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7A471-88CE-4CDF-86F5-8FDC5DB700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F351F-41F3-410A-BBB9-8804585C5A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B7F23-876C-4B50-B5D9-16E46F0F83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26480" y="0"/>
            <a:ext cx="317520" cy="685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3200" bIns="4320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00200" y="685800"/>
            <a:ext cx="7543800" cy="685800"/>
          </a:xfrm>
          <a:prstGeom prst="rect">
            <a:avLst/>
          </a:prstGeom>
          <a:solidFill>
            <a:srgbClr val="4639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Click to edit the title text format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8305920" y="64004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4d4d4d"/>
                </a:solidFill>
                <a:latin typeface="Arial Black"/>
                <a:ea typeface="산돌고딕B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781B-B1D5-4C11-B7FA-E5F8F15A5EE2}" type="slidenum">
              <a:rPr b="0" lang="ko-KR" sz="1000" spc="-1" strike="noStrike">
                <a:solidFill>
                  <a:srgbClr val="4d4d4d"/>
                </a:solidFill>
                <a:latin typeface="Arial Black"/>
                <a:ea typeface="산돌고딕B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>
            <a:lum bright="30000"/>
          </a:blip>
          <a:srcRect l="0" t="0" r="0" b="955"/>
          <a:stretch/>
        </p:blipFill>
        <p:spPr>
          <a:xfrm>
            <a:off x="152280" y="228600"/>
            <a:ext cx="1295640" cy="1279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80880" y="6324480"/>
            <a:ext cx="84582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576360" indent="-233280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228600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262160" indent="-228600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1604880" indent="-228600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5" marL="1604880" indent="-228600">
              <a:spcBef>
                <a:spcPts val="349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6" marL="1604880" indent="-228600">
              <a:spcBef>
                <a:spcPts val="349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>
            <a:lum bright="30000"/>
          </a:blip>
          <a:srcRect l="0" t="0" r="0" b="955"/>
          <a:stretch/>
        </p:blipFill>
        <p:spPr>
          <a:xfrm>
            <a:off x="152280" y="152280"/>
            <a:ext cx="5257800" cy="5194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07720"/>
            <a:ext cx="7772400" cy="5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HY견고딕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4495680" y="4572000"/>
            <a:ext cx="464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690480" algn="ctr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033560" algn="ctr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349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349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45120" y="4648320"/>
            <a:ext cx="203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Verdana"/>
                <a:ea typeface="돋움"/>
              </a:rPr>
              <a:t>2008. 10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1268280"/>
            <a:ext cx="62438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비영리단체를 통한 자금세탁 가능성 분석 및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대응방안 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284720" y="5516640"/>
            <a:ext cx="462420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금융위원회 금융정보분석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612144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66B8F-B444-4330-AE7F-E98B6F6F6D8F}" type="slidenum">
              <a:t>10</a:t>
            </a:fld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가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.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비영리법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법인의 범위는 민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의설립․운영에관한법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립학교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육기본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법인세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상속세및증여세법 등의 법과 관련이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☞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민법 제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32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조의 규정에 의거 주무부처의 허가를 받은 법인으로서 학술˙․종교․ 자선․기예․사교 기타  영리 아닌 사업을 목적으로 하는 것을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3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말하며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민법상 일반 비영리법인과 공익법인을 구분하지는 않고 있음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☞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민법 제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32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사립학교법 제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조의 규정에 의하여 설립된 법인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기타 특별법에 의하여 설립된 법인으로서 민법 제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32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조의 설립목적 및 기타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비슷한 설립목적을 가진 법인과 법인격 없는 사단․재단 기타 단체로서 국세기본법 제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13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조의 규정에 의하여 법인으로 보는 단체를 말함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각각의 비영리법인은 그 성격에 따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육과학부소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국가보훈처소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융위원회소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문화관광부 및 문화재청소관 등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관청의 비영리법인설립및감독에관한규칙에 의하여 설립됨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법인사무의 검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감독을 위하여 필요하다고 인정하는 경우에는 법인에게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관계서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장부 기타 참고자료의 제출을 명하거나 소속공무원으로 하여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여금 법인의 사무 및 재산 상황을 검사하게 할 수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24FA2-6AEE-4EB9-B87F-D5176EE9F735}" type="slidenum">
              <a:t>11</a:t>
            </a:fld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771640" y="1413000"/>
            <a:ext cx="4513320" cy="48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1465F-83E5-4C42-8002-9AA0E5F64560}" type="slidenum">
              <a:t>12</a:t>
            </a:fld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나</a:t>
            </a: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비영리민간단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민간단체는 비영리민간단체지원법 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에 의거 국가나 지자체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지원을 얻기 위해 관련 행정청에 등록하는 단체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등록 처리는 등록부서 검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등록신청서 접수 및 검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등록처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등록사항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통보 및 등록증 교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관보게재의 절차로 처리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행정자치부장관 또는 시ㆍ도지사는 해당 비영리민간단체가 사업계획서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허위의 사실을 기재하거나  기타 부정한 방법으로 보조금을 교부받은 경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그 보조금을 환수할 수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부정한 방법으로 보조금 교부 ⇒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 이하의 징역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1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천만원 이하의 벌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보조금을 다른 용도로 사용 ⇒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 이하의 징역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5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백만원 이하의 벌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00532-AEA0-4B3A-B880-DB250C9C97CA}" type="slidenum">
              <a:t>13</a:t>
            </a:fld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619280" y="5734080"/>
            <a:ext cx="5257800" cy="216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27563" t="21875" r="24537" b="16879"/>
          <a:stretch/>
        </p:blipFill>
        <p:spPr>
          <a:xfrm>
            <a:off x="1554120" y="1600200"/>
            <a:ext cx="7050240" cy="456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18C68-B699-4ED5-BDB7-1ABE4FCE9631}" type="slidenum">
              <a:t>14</a:t>
            </a:fld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16" name=""/>
          <p:cNvSpPr/>
          <p:nvPr/>
        </p:nvSpPr>
        <p:spPr>
          <a:xfrm>
            <a:off x="574560" y="191628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다</a:t>
            </a: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공익법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의 활성화를 위해 공익법인의설립및운영에관한법률을 제정하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각종 세제상의 혜택을 주고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의  설립허가 신청이 있는 경우 재단법인에 있어서는 출연재산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입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단법인에 있어서는 회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부금 등으로 조성되는 재원의 수입으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적사업을 원활히 달성할 수 있다고 인정되는 경우에 한하여 설립을 허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으로 등록한 경우 조세감면의 혜택이 주어지는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와 관련하여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주무관청은 해당 공인법인의 업무를 감독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업의 시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⇒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익을 목적 이외에 사용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 목적에 위배 될 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설립허가의 취소 ⇒ 해당 법률 위반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15998-CA28-451D-857A-0F314733C346}" type="slidenum">
              <a:t>15</a:t>
            </a:fld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6337440" cy="475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EC8F7-3C91-4123-993C-0DA0B6A720C6}" type="slidenum">
              <a:t>16</a:t>
            </a:fld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63280" y="83664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와 자금세탁방지제도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1.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비영리단체와 자금세탁방지제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우리나라 자금세탁방지제도의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 틀은 혐의거래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액현금거래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객확인제도라 할 수 있는데 일단은 동 제도들을 통하여 비영리단체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금세탁을 포착할 수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혐의거래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지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여 간 혐의거래보고 중 혐의가 있는 것으로 판정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4,061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 중 비영리단체가 관련된 건수는 아직 알려지지 않고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액현금거래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법인에 대한 고액현금거래를 내역을 살펴보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체 고액현금거래 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.7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차지하고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객확인제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은행 지점당 일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4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～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 정도 발생하여 제도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시행 전과 비슷한 수준인 것으로 파악되고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3989E-7703-497D-895D-F67414090AD4}" type="slidenum">
              <a:t>17</a:t>
            </a:fld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63280" y="83664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와 자금세탁방지제도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굴림"/>
              </a:rPr>
              <a:t>2. </a:t>
            </a:r>
            <a:r>
              <a:rPr b="1" lang="zh-CN" sz="2400" spc="-1" strike="noStrike">
                <a:solidFill>
                  <a:srgbClr val="ffff00"/>
                </a:solidFill>
                <a:latin typeface="굴림"/>
              </a:rPr>
              <a:t>비영리단체의 금융거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현 제도상 비영리단체의 금융거래 투명성을 위하여 금융실명제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고객확인제도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혐의거래보고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고액현금거래보고 등과 같은 제도가 적용되고 있음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고객확인제도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금융실명제에서의 실지명의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성명 및 주민등록번호 등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) ,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주소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연락처 등도 확인하는 한편 자금세탁의 우려가 있는 경우 실제당사자 여부 및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금융거래의 목적까지 확인함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신원확인 사항이 의심스러운 경우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금융기관은 진위여부를 확인 할 수 있음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     ☞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금융기관은 계좌의 신규개설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2,000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만원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외화 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만 달러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이상의 일회성 금융거래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자금세탁의 우려가 있는 경우 고객확인제도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(CDD)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에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        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따른 신원 확인 사항에 따라 실지명의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설립목적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주된 사무소의 소재지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연락처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전화번호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전자우편주소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대표자의 실지명의를 확인함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A0EAB-A6DD-4706-84D8-12484F79C4BE}" type="slidenum">
              <a:t>18</a:t>
            </a:fld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와 자금세탁방지제도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27563" t="24500" r="27228" b="34668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32813-5EA7-4EA8-80EF-B0CA333B3AC4}" type="slidenum">
              <a:t>19</a:t>
            </a:fld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목 차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서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연구의 필요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연구의 주요내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I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비영리단체의 일반적인 특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II</a:t>
            </a:r>
            <a:r>
              <a:rPr b="1" lang="en-US" sz="2000" spc="-1" strike="noStrike">
                <a:solidFill>
                  <a:srgbClr val="ffff00"/>
                </a:solidFill>
                <a:latin typeface="굴림"/>
              </a:rPr>
              <a:t>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비영리단체와 우리나라의 자금세탁방지제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비영리단체와 자금세탁방지제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비영리단체의 금융거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V</a:t>
            </a:r>
            <a:r>
              <a:rPr b="1" lang="en-US" sz="2000" spc="-1" strike="noStrike">
                <a:solidFill>
                  <a:srgbClr val="ffff00"/>
                </a:solidFill>
                <a:latin typeface="굴림"/>
              </a:rPr>
              <a:t>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비영리단체에 대한 감독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현행법 규정상의 감독체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자율규제기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1C03C-C5EE-4906-A726-2C2FB45742E1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와 자금세탁방지제도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19280" y="1441440"/>
            <a:ext cx="6048360" cy="479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F98CD-B451-4BB7-A14D-6D4A01A1123C}" type="slidenum">
              <a:t>20</a:t>
            </a:fld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에 대한 감독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1.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현행법 규정상의 감독체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단체의 특성에 따라 관련 있는 주무관청에 등록 또는 설립허가신청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고 그 주무관청은 법률을 검토하여 등록 또는 허가의 여부를 결정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법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설립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법인의설립및감독에관한규칙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허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주무관청의 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감독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소속공무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취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법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에 규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문제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법인에 대해서는 허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설립신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업실적 및 사업계획의 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필요한 경우 검사 및 감독 등의 규제 및 관리장치가 법적으로 마련되어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법 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에 규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1850E-A4A0-4A23-9A94-9C63F9100132}" type="slidenum">
              <a:t>21</a:t>
            </a:fld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에 대한 감독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민간단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설립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민간단체지원법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등록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해당단체의 주된 공익활동을 주관하는 장관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특별시장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광역시장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또는 도지사에게 등록을 신청하여야 함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감독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사업계획서 및 사업완료보고서 제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처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동법 제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13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조에 규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공익법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설립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공익법인의설립및운영에관한법률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등록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주무관청의 설립허가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감독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주무관청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취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동법 제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조에 규정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처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동법 제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19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조에 규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9D5E3-AEB7-4C61-B97B-EBC9CE4203D5}" type="slidenum">
              <a:t>22</a:t>
            </a:fld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에 대한 감독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2.  </a:t>
            </a: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자율규제현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미국과 영국에서는 비영리조직도 영리조직과 마찬가지로 재무상태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공개하여 이해관계자들이 언제라도 확인할 수 있도록 공개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우리나라  시민사회정보시스템에 포함될 내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국내에 있는 모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CSO(Civil Society Organization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들에 대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광범위한 정보를 통합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국내에 있는 모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CSO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들에 대한 광범위한 정보를 통합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선관련 정보를 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취득하는 일을 논리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능률화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모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CSO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 관한 보고서를 무료 공공 웹사이트를 통해 전세계에 알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통합 데이터를 정책 결정자와 연구자들에게 제공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열린 정보․기술 플랫폼이 중간매개자들에게 부가가치서비스를 제공할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 있도록 관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☞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시민사회정보시스템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(CSIS)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이란 미국에서 비영리단체의 운영 및 재정과 관련된 정보제공을 위해 비영리단체가 자율적으로 설립된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민간자율규제기관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(GuideStar)</a:t>
            </a:r>
            <a:r>
              <a:rPr b="0" lang="ko-KR" sz="1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)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으로 미국 국세청에 보고된 비영리단체의 재무자료를 바탕으로 웹사이트를 통해 정보제공을 하고 있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29C3B-29F9-4A77-98BB-F49437017945}" type="slidenum">
              <a:t>23</a:t>
            </a:fld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 분야의 범죄유형 및 사례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.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국내 사례와 범죄 유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47640" y="2492280"/>
            <a:ext cx="5616720" cy="35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E0A33-2804-4501-8DA2-4CA4F91C466D}" type="slidenum">
              <a:t>24</a:t>
            </a:fld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 분야의 범죄유형 및 사례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840360" cy="43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22C1C-CEF1-4243-8777-6D775D6234C2}" type="slidenum">
              <a:t>25</a:t>
            </a:fld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 분야의 범죄유형 및 사례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985080" cy="295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138F1-04C5-44FC-AF32-8959CDA420D2}" type="slidenum">
              <a:t>26</a:t>
            </a:fld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 분야의 범죄유형 및 사례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983280" cy="453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43AD4-7D82-4427-B18E-DAE53A7CCD67}" type="slidenum">
              <a:t>27</a:t>
            </a:fld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HY견고딕"/>
              </a:rPr>
              <a:t>VI. FATF</a:t>
            </a:r>
            <a:r>
              <a:rPr b="0" lang="zh-CN" sz="2400" spc="-1" strike="noStrike">
                <a:solidFill>
                  <a:srgbClr val="d8d8d8"/>
                </a:solidFill>
                <a:latin typeface="HY견고딕"/>
              </a:rPr>
              <a:t>의 권고내용과 주요국의 제도 적용사례</a:t>
            </a:r>
            <a:endParaRPr b="0" lang="en-US" sz="24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444000" cy="456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FE185-0F6C-4728-BB31-70610C68D608}" type="slidenum">
              <a:t>28</a:t>
            </a:fld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HY견고딕"/>
              </a:rPr>
              <a:t>VI. FATF</a:t>
            </a:r>
            <a:r>
              <a:rPr b="0" lang="zh-CN" sz="2400" spc="-1" strike="noStrike">
                <a:solidFill>
                  <a:srgbClr val="d8d8d8"/>
                </a:solidFill>
                <a:latin typeface="HY견고딕"/>
              </a:rPr>
              <a:t>의 권고내용과 주요국의 제도 적용사례</a:t>
            </a:r>
            <a:endParaRPr b="0" lang="en-US" sz="24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1.  </a:t>
            </a: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미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위험기반접근법에 따라 각 비영리단체는 자신이 처한 상황에 따라 실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가능하고 성실하고 합리적인 테러활동지원 차단을 위한 수단을 마련하도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에 대한 감독책임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재무관리의 투명성을 위한 조치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기부금의 분배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하위 기부금  수령자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확인절차 등에 대해서 구체적으로 명시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감독책임과 투명성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감독 수단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의 독립적인 관리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의 주요 임원 등에 요구되는 사항을 명시적으로 설명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재무관리의 투명성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기부금의 영수와 지급시 취해야 할 사항을 명시하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처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OFAC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의 상벌규정과 테러자금조달방지와 관련된 법규에 의하여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처벌하는 규정을 마련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18A94-95B3-4D0D-A070-8236491DC215}" type="slidenum">
              <a:t>29</a:t>
            </a:fld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목 차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비영리단체 분야의 범죄유형 및 사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국내사례와 범죄유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해외 사례와 범죄유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I. FATF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의 권고내용과 주요국의  제도 적용사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FATF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의 권고내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주요국의 제도 적용사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II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비영리단체에 대한  자금세탁제도 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제도 도입의 취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제도 도입 방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46FE5-863E-457E-9911-7FB41435004F}" type="slidenum">
              <a:t>3</a:t>
            </a:fld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HY견고딕"/>
              </a:rPr>
              <a:t>VI. FATF</a:t>
            </a:r>
            <a:r>
              <a:rPr b="0" lang="zh-CN" sz="2400" spc="-1" strike="noStrike">
                <a:solidFill>
                  <a:srgbClr val="d8d8d8"/>
                </a:solidFill>
                <a:latin typeface="HY견고딕"/>
              </a:rPr>
              <a:t>의 권고내용과 주요국의 제도 적용사례</a:t>
            </a:r>
            <a:endParaRPr b="0" lang="en-US" sz="24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2.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호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호주의 경우도 위험기반접근법에 따라 각 비영리단체는 자신이 처한 상황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따라 실행가능하고 성실하고 합리적인 테러활동지원 차단을 위한 수단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마련하도록 하고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비영리단체의 현황파악을 위하여 설문조사를 실시하고 관련 법률안을 제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하는 등 비영리단체에 대한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ATF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권고사항을 이행하기 위하여 준비하고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현재 추진하고 법률안에서는 비영리단체에 대한 구체적인 신원확인 절차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검증방법을 명시하고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등록하지 않은 단체에 대해서도 등록된 법인에 상응하는 정보를 수집할 것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요구하고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ACDD2-6642-4421-AF9F-3FDB22712B1A}" type="slidenum">
              <a:t>30</a:t>
            </a:fld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HY견고딕"/>
              </a:rPr>
              <a:t>VII. </a:t>
            </a:r>
            <a:r>
              <a:rPr b="0" lang="zh-CN" sz="2400" spc="-1" strike="noStrike">
                <a:solidFill>
                  <a:srgbClr val="d8d8d8"/>
                </a:solidFill>
                <a:latin typeface="HY견고딕"/>
              </a:rPr>
              <a:t>비영리단체에  자금세탁제도 개선방안</a:t>
            </a:r>
            <a:endParaRPr b="0" lang="en-US" sz="24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.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적용대상 및 범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기존 법률상 규정된 비영리단체에 대한 규제강화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○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비영리법인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비영리민간단체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공익법인 등의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개 형태는 구체적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법률적 기반을 가지고 있고 분류를 위한 일부 자료가 제공되고 있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이들에 대한 규제 및 감독 강화를 통해 비영리단체에 대한 자금세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방지 강화 조치를 일차적으로 달성할 수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굴림"/>
              </a:rPr>
              <a:t>2. </a:t>
            </a:r>
            <a:r>
              <a:rPr b="1" lang="zh-CN" sz="2000" spc="-1" strike="noStrike">
                <a:solidFill>
                  <a:srgbClr val="ffff00"/>
                </a:solidFill>
                <a:latin typeface="굴림"/>
              </a:rPr>
              <a:t>도입방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기존 법률에 규정되어 있는 비영리법인의 해당관청의 검사 및 감독 기능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강화하는 방안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관련 법규의 부분 개정을 통하여 감독 및 감사 기능을 강화하는 방안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고려해 볼 수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A3B27-1CFE-4F01-B7A1-C7994F71CF30}" type="slidenum">
              <a:t>31</a:t>
            </a:fld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HY견고딕"/>
              </a:rPr>
              <a:t>VII. </a:t>
            </a:r>
            <a:r>
              <a:rPr b="0" lang="zh-CN" sz="2400" spc="-1" strike="noStrike">
                <a:solidFill>
                  <a:srgbClr val="d8d8d8"/>
                </a:solidFill>
                <a:latin typeface="HY견고딕"/>
              </a:rPr>
              <a:t>비영리단체에  자금세탁제도 개선방안</a:t>
            </a:r>
            <a:endParaRPr b="0" lang="en-US" sz="24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정부의 역할 재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에 대한 통계 및 자료 구축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에 대한 정보망 구축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관련 국제협력 능력 확보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에 대한 자금세탁방지 프로그램 확대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민간자율 규제기관의 활용 및 연계강화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2007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년부터 민간조직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GuideStarKorea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는 시민사회정보시스템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도입하여 시민단체에 대한 정보 제공을 통해 비영리단체의 책임성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투명성을 제고할 예정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동 프로그램은 정부기관에도 비영리단체에 대한 분석도구를 제공하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에 대한 구체적인 정보를 확보할 수 있는 통로가 될 것임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32D3E-2BB4-49D7-B957-65BE05F5EC6B}" type="slidenum">
              <a:t>32</a:t>
            </a:fld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8100720" cy="2590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219320" y="1916280"/>
            <a:ext cx="792468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         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감사합니다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36D83-EBE9-4AA1-A403-02656E12B1B5}" type="slidenum">
              <a:t>3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서론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844640"/>
            <a:ext cx="8569440" cy="439272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1.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연구의 필요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가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국제적 논의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자금세탁 및 테러자금 차단과 관련된 규제의 적용범위는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1990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년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FATF  40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권고 채택 이후 지속적으로 확대되어 왔음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FATF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는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2001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년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월 테러자금조달 차단 특별권고를 통하여 비영리단체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대해서도 관리․감독을 강화하고 관련 법규를 정비할 것을 권고하고 있음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 APG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는 매년 개최되는 워크숍 등을 통하여 비영리단체를 통한 자금세탁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관한 주제를 논의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6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☞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금융권을 이용한 자금세탁이 어려워짐에 따라 자금세탁자들은 다른 루트를 더욱 활용하고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loophole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을 찾게 됨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따라서 자금세탁자들은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비영리단체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대체송금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전문직 및 비금융업 등 금융권을 이용하지 않는 곳을 통하여 자금세탁을 시도할 가능성이 높아지고 있음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.  FATF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전문직은 법률전문직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회계사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신탁 및 회사서비스 제공인 등을 말하며 비금융업은 카지노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부동산중개인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귀금속상 등을 의미함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0F0BB-F9F7-4A34-8CE9-D2AAA6FE0A23}" type="slidenum">
              <a:t>4</a:t>
            </a:fld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서론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844640"/>
            <a:ext cx="8569440" cy="439272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국내제도 개선의 필요성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우리나라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『범죄수익은닉의규제및처벌등에관한법률』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『특정금융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거래정보의보고및이용에관한법률』 등의 자금세탁방지 법률을 제정함으로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금세탁방지제도의 틀을 마련하였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히 비영리단체의 경우 관리․감독하는 곳이 여러 곳에 분산되어 있고 그 현황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합적으로 파악되지 않고 있는 실정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우리나라는 비영리단체의 자금모금 및 운용을 위하여 비영리단체의 자금모금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관한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부금품모집규제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있으나 이러한 자금이 테러활동 등 불법적인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경로로 이동하는 것을 막기 위한 별다른 조치를 마련하고 있지 않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99A02-72BB-470F-AF3E-AD22B074B275}" type="slidenum">
              <a:t>5</a:t>
            </a:fld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95" name=""/>
          <p:cNvSpPr/>
          <p:nvPr/>
        </p:nvSpPr>
        <p:spPr>
          <a:xfrm>
            <a:off x="574560" y="1700280"/>
            <a:ext cx="8569440" cy="439272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1.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우리나라의 비영리단체의 정의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설립 및 운영에 관한 법률 에 의한 정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민법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립학교법 등 관련 소관 부처의 설립법 등에 의거 설립된 단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 등록 및 비영리단체와 영리단체에 대한 구분 에 따른 단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975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 제정된 「공익법인의 설립 및 운영에 관한 법률」에 따른 단체 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법상의 정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법인세법상 비영리법인은 민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 또는 사립학교법 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의 규정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의거 설립된 법인과 기타 특별법에 의하여 설립된 법인을 의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그 이외 법인격이 없는 사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재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타 단체는 국세기본법 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규정을 따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본 연구에서는 비영리단체를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FATF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의 정의에 기초하여 넓은 의미에서 자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문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육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교 목적 또는 기타 선행을 실천하기 위한 목적으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금을 모으고 집행하는 조직 또는 법적 주체로 지칭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58C92-C07C-4998-A23D-DB6F0559AF83}" type="slidenum">
              <a:t>6</a:t>
            </a:fld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굴림"/>
              </a:rPr>
              <a:t>2. </a:t>
            </a:r>
            <a:r>
              <a:rPr b="1" lang="zh-CN" sz="2400" spc="-1" strike="noStrike">
                <a:solidFill>
                  <a:srgbClr val="ffff00"/>
                </a:solidFill>
                <a:latin typeface="굴림"/>
              </a:rPr>
              <a:t>유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우리나라에의 경우 다양한 형태의 비영리단체들이 활동하고 있으나 이들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대한 명확한 개념규정이나 분류방법에 대해서는 아직까지 다양한 의견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존재하고 있음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우리나라 비영리단체의 유형에는 민간 비영리단체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비영리법인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공익법인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민간단체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시민단체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시민운동단체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관변단체 등의 형태가 존재하고 있음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한국민간단체총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2006)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은 우리나라에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7,461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개의 민간단체와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5,556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개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시민단체가 있는 것으로 파악하고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☞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본문에서는 비영리법인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비영리민간단체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공익법인과 같이 법에 규정된    비영리단체에 대한 현황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등록 및 설립절차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규제체계 등에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대해서 살펴보고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민간단체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시민단체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시민운동단체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관변단체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종교단체와 같은 기타 비영리단체에 대해서는 별첨에서 다룸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E5593-DAB1-4968-9383-B42A116068D9}" type="slidenum">
              <a:t>7</a:t>
            </a:fld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337440" cy="43927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b2b2b2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BF18B-D9AD-4D13-AF64-401430A9A1A2}" type="slidenum">
              <a:t>8</a:t>
            </a:fld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626580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4EA3F-A80A-47E3-97D5-2454503030E3}" type="slidenum">
              <a:t>9</a:t>
            </a:fld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07:55:34Z</dcterms:created>
  <dc:creator>onlyyou</dc:creator>
  <dc:description/>
  <dc:language>en-US</dc:language>
  <cp:lastModifiedBy>admin</cp:lastModifiedBy>
  <cp:lastPrinted>2003-11-27T01:49:31Z</cp:lastPrinted>
  <dcterms:modified xsi:type="dcterms:W3CDTF">2008-10-31T00:24:59Z</dcterms:modified>
  <cp:revision>318</cp:revision>
  <dc:subject/>
  <dc:title>KIEP 대외경제정책연구원</dc:title>
</cp:coreProperties>
</file>